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EEF-694A-4088-9610-63FCAD9F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489-721B-47E6-AFCB-47F72C94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009-B1EC-4895-8B90-08571790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008-3E82-43CC-A5A1-5965CCFA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6693-2AB4-4ABB-BA36-71A5F100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A463-F6D2-4960-89EE-9F05DE1E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6F74-A1FD-439B-8A75-61709142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4ED4-B6F0-4A95-9B0F-C6510DB3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8482-D996-49DE-A046-D6EFD303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ADF7-ABCC-48CD-A497-8FECF95A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B765-B52B-4CD5-A000-D28AA3B5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917-893C-41F3-B73B-E0D40C05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6771-3814-4735-B17F-30189890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277F-B691-463D-88E8-2D914E27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6DB3-28E9-42A8-8D88-85509949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15BF-9CCB-485F-8F95-0F234D80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E3F6-A7B1-44C5-904B-3DAB602F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E3D-B0A4-4F9E-B7BF-986174A0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2E7-A981-4A77-8A32-6EAD4964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DB3-BB3A-4140-80B0-3689A73A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90C-AE51-45EA-9913-35F14F1C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91B-A380-4C6F-BDDA-2D505C3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3BE-153D-4247-BBCF-8A10E7E7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DB7-6D29-4239-8E03-BF8CBF9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ECEA-43B5-4696-9B2E-B7889E2493B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4991-ECFC-4A6C-84CB-7CCA395D455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Methods and Parameter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pter F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Invoking a method   (Calling it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rawTriangle (g, 80, 200, 100, 110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 flipH="1">
            <a:off x="1447560" y="2590920"/>
            <a:ext cx="2057400" cy="990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396252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ype of  Graphics It better B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962160" y="2514600"/>
            <a:ext cx="152280" cy="10666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4495680" y="2514600"/>
            <a:ext cx="457200" cy="10666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8120" y="3886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ottom X &amp;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5334120" y="2590920"/>
            <a:ext cx="304560" cy="76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95288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400800" y="2590920"/>
            <a:ext cx="457200" cy="10666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172200" y="3962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 call to a method must Agree in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rd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umb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Java passes by value NOT by reference (arrays do but not yet covered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 copy is passed the original stays the s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OT by reference (passing addresses of original variabl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erms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rmal parameter list - in signature - names of the parameters (and types of cours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ctual parameters - in call The val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ummy parameters - in signature stand 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ocal (only good limited by where declared) “limited scop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lobal (good everywhere)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hat if ….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ames of parameters (or variables) same in method and redefined (used) in class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ctually not a problem Java takes the most local (method) use (could even be a different type) and uses that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T it is confusing (could be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hy is paint public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 browser has to use it (invokes i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aint has to be public NOT private or browser can not invoke i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Methods may return a valu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ivate int areaRectangle (int side1, int side2)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*says that an integer will be returned by areaRectangle AND it will be of type integer…*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rawTriangle did NOT return anything it just drew a shap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hen your methods return something the call has to deal with the results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 answer = areaRectangle ( 30, 40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wt.*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pplet.Apple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blic class ReturnDemo extends Applet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ublic void paint (Graphics g)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 answer = areaRectangle (30, 40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.drawString(“area of rectangle is “ + answer, 100, 200); }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vate int areaRectangle (int side1, int side2)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 area = side1 * side2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turn area; } }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reak Large tasks down into small ones (methods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e method should be easier to understan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drawRect (20,20,80,50)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ameters (meaningful ter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rguments (correct java ter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riting your own Method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raw a Trian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rst with only number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ater using variable nam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.drawLine (80,200,80 + 100, 200); // base li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.drawLine (80 +100, 200, 80 +100 / 2, 200-110);  // Right si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.drawLine (80 +100/2, 200 -110, 80, 200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// Left side of the triangle - Works But there 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// A Better way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wt.*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pplet.Apple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blic class TriangleTry extends Applet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ublic void paint (Graphics g)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nt bottomX = 8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nt bottmY = 2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nt base =1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nt height = 11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.drawLine (bottomX, bottomY, bottomX + base, bottomY)  // What does this draw 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drawLine (bottomX + base, bottomY, bottomX + base /2, bottomY-height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/ What does the above line draw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/ Final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drawLine (bottomX + base/2, bottomY - height, bottomX, bottomY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} 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Using a method to draw triangl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/ Call the method as often as needed/want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wt.*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pplet.Apple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blic class TrangleMethodDemo  extends Applet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ublic void paint (Graphics g)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// the two calls to drawTriang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rawTriangle (g, 80,200,100,110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rawTriangle(g, 125,220,60,70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}  // end of paint NOT end of class (progra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vate void drawTriangle (Graphics g, int bottomX, int bottomY, int base, int height)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// start of metho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.drawLIne ( bottomX, bottomY, bottomX + base, bottomY);  // Hope this looks famili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/ Next are the other si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drawLine (bottomX + base, bottomY, bottomX + base /2, bottomY-height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/ What does the above line draw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/ Final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.drawLine (bottomX + base/2, bottomY - height, bottomX, bottomY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} 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/ I copied the earlier slide here SAME stuf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/ the two sides of the triangle Agai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Public vs Privat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ivate void drawTriangle (Graphics g, int bottomX, int bottopmY, in base, int heigh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// method header (signiture)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ivate only can be seen/modified by this class not someone el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blic fair game to see/ be modified by anyone (other program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10:39:16Z</dcterms:created>
  <dc:creator>Rod Farkas</dc:creator>
  <dc:description/>
  <dc:language>en-US</dc:language>
  <cp:lastModifiedBy>Admin</cp:lastModifiedBy>
  <dcterms:modified xsi:type="dcterms:W3CDTF">2014-03-27T01:02:23Z</dcterms:modified>
  <cp:revision>4</cp:revision>
  <dc:subject/>
  <dc:title>Methods and Parameters</dc:title>
</cp:coreProperties>
</file>